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millionaire1.wav" ContentType="audio/x-wav"/>
  <Override PartName="/ppt/media/image13.png" ContentType="image/png"/>
  <Override PartName="/ppt/media/image7.png" ContentType="image/png"/>
  <Override PartName="/ppt/media/image6.png" ContentType="image/png"/>
  <Override PartName="/ppt/media/score1.wav" ContentType="audio/x-wav"/>
  <Override PartName="/ppt/media/ccheer.wav" ContentType="audio/x-wav"/>
  <Override PartName="/ppt/media/image12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45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3886200" y="868644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Webding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92D30-7FAC-4E93-BE05-2C64E05C5EE4}" type="slidenum">
              <a:rPr b="0" lang="en-GB" sz="1200" spc="-1" strike="noStrike">
                <a:solidFill>
                  <a:srgbClr val="ffffff"/>
                </a:solidFill>
                <a:latin typeface="Webding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ADEFD-A419-4F8E-8913-0E04068C3A83}" type="slidenum">
              <a:rPr b="0" lang="en-GB" sz="1200" spc="-1" strike="noStrike">
                <a:solidFill>
                  <a:srgbClr val="ffffff"/>
                </a:solidFill>
                <a:latin typeface="Webding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BAE4-9513-47F6-A214-188212C09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CC95-0327-4931-9789-E70941B2D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D5626-2033-48F9-B878-B810CEF6D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BFFF-50E3-4BA2-BB39-F95BE89F10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4BD9-5735-47C8-9E6F-40DE3B797E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B34C-850F-414D-955B-23F0FB2BE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5BC7-E175-48B8-9204-4F91B9B77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7E53-7E8A-464C-8711-854937442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7677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8CAF-D3E8-4180-87C6-620C4DAA7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06D2-4659-4C3F-8F05-A20D2951B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1D9F-9EC0-4613-B170-CCCB14CF2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DC602-A583-4AA6-85DB-0C2448EA2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75D97-C3AE-4F87-ADB5-AEEFE29437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audio" Target="../media/millionaire1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audio" Target="../media/millionaire1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audio" Target="../media/millionaire1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2.png"/><Relationship Id="rId19" Type="http://schemas.openxmlformats.org/officeDocument/2006/relationships/audio" Target="../media/millionaire1.wav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2.png"/><Relationship Id="rId14" Type="http://schemas.openxmlformats.org/officeDocument/2006/relationships/audio" Target="../media/millionaire1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2.png"/><Relationship Id="rId14" Type="http://schemas.openxmlformats.org/officeDocument/2006/relationships/audio" Target="../media/millionaire1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audio" Target="../media/millionaire1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12.png"/><Relationship Id="rId11" Type="http://schemas.openxmlformats.org/officeDocument/2006/relationships/slide" Target="slide37.xml"/><Relationship Id="rId12" Type="http://schemas.openxmlformats.org/officeDocument/2006/relationships/image" Target="../media/image13.png"/><Relationship Id="rId13" Type="http://schemas.openxmlformats.org/officeDocument/2006/relationships/hyperlink" Target="file:///tmp/home/.config/libreoffice/4/user/gallery/laugh%20track.wav" TargetMode="External"/><Relationship Id="rId14" Type="http://schemas.openxmlformats.org/officeDocument/2006/relationships/slide" Target="slide32.xml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audio" Target="../media/millionaire1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audio" Target="../media/millionaire1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audio" Target="../media/millionaire1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6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7.xml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audio" Target="../media/millionaire1.wav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12.png"/><Relationship Id="rId11" Type="http://schemas.openxmlformats.org/officeDocument/2006/relationships/slide" Target="slide37.xml"/><Relationship Id="rId12" Type="http://schemas.openxmlformats.org/officeDocument/2006/relationships/image" Target="../media/image13.png"/><Relationship Id="rId13" Type="http://schemas.openxmlformats.org/officeDocument/2006/relationships/hyperlink" Target="file:///tmp/home/.config/libreoffice/4/user/gallery/laugh%20track.wav" TargetMode="External"/><Relationship Id="rId14" Type="http://schemas.openxmlformats.org/officeDocument/2006/relationships/slide" Target="slide32.xml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audio" Target="../media/millionaire1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audio" Target="../media/millionaire1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12.png"/><Relationship Id="rId11" Type="http://schemas.openxmlformats.org/officeDocument/2006/relationships/slide" Target="slide37.xml"/><Relationship Id="rId12" Type="http://schemas.openxmlformats.org/officeDocument/2006/relationships/image" Target="../media/image13.png"/><Relationship Id="rId13" Type="http://schemas.openxmlformats.org/officeDocument/2006/relationships/hyperlink" Target="file:///tmp/home/.config/libreoffice/4/user/gallery/laugh%20track.wav" TargetMode="External"/><Relationship Id="rId14" Type="http://schemas.openxmlformats.org/officeDocument/2006/relationships/slide" Target="slide32.xml"/><Relationship Id="rId15" Type="http://schemas.openxmlformats.org/officeDocument/2006/relationships/image" Target="../media/image20.png"/><Relationship Id="rId16" Type="http://schemas.openxmlformats.org/officeDocument/2006/relationships/image" Target="../media/image20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audio" Target="../media/millionaire1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ccheer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12.png"/><Relationship Id="rId11" Type="http://schemas.openxmlformats.org/officeDocument/2006/relationships/slide" Target="slide37.xml"/><Relationship Id="rId12" Type="http://schemas.openxmlformats.org/officeDocument/2006/relationships/image" Target="../media/image13.png"/><Relationship Id="rId13" Type="http://schemas.openxmlformats.org/officeDocument/2006/relationships/hyperlink" Target="file:///tmp/home/.config/libreoffice/4/user/gallery/laugh%20track.wav" TargetMode="External"/><Relationship Id="rId14" Type="http://schemas.openxmlformats.org/officeDocument/2006/relationships/slide" Target="slide32.xml"/><Relationship Id="rId15" Type="http://schemas.openxmlformats.org/officeDocument/2006/relationships/image" Target="../media/image20.png"/><Relationship Id="rId16" Type="http://schemas.openxmlformats.org/officeDocument/2006/relationships/image" Target="../media/image20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audio" Target="../media/millionaire1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audio" Target="../media/score1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audio" Target="../media/millionaire1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295280" y="457200"/>
            <a:ext cx="6645240" cy="5867280"/>
            <a:chOff x="1295280" y="457200"/>
            <a:chExt cx="6645240" cy="586728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295280" y="457200"/>
              <a:ext cx="664524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2220840" y="3700440"/>
              <a:ext cx="4908600" cy="303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76212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943600" y="571500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6172200"/>
            <a:ext cx="152280" cy="763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54200" y="1303200"/>
            <a:ext cx="4435200" cy="4411800"/>
            <a:chOff x="754200" y="1303200"/>
            <a:chExt cx="4435200" cy="441180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754200" y="13032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 txBox="1"/>
            <p:nvPr/>
          </p:nvSpPr>
          <p:spPr>
            <a:xfrm>
              <a:off x="1371600" y="37418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4680" y="1600200"/>
            <a:ext cx="9144000" cy="1222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4567320" y="4573440"/>
            <a:ext cx="4653000" cy="654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14508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Tahoma"/>
                <a:ea typeface="Tahoma"/>
              </a:rPr>
              <a:t>The equity section of a partnership </a:t>
            </a:r>
            <a:endParaRPr b="0" lang="en-US" sz="31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Tahoma"/>
                <a:ea typeface="Tahoma"/>
              </a:rPr>
              <a:t>Balance sheet is called:</a:t>
            </a:r>
            <a:endParaRPr b="0" lang="en-US" sz="31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A.)T. Dagg, Capital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ahoma"/>
              </a:rPr>
              <a:t>B.) Partnership equity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.) Shareholder’s equity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D.) Owner’s equity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905120" y="228600"/>
            <a:ext cx="26668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200 question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3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4" name="millionaire1.wav"/>
      </p:stSnd>
    </p:sndAc>
  </p:transition>
  <p:timing>
    <p:tnLst>
      <p:par>
        <p:cTn id="102" dur="indefinite" restart="never" fill="hold">
          <p:childTnLst>
            <p:seq>
              <p:cTn id="103" dur="indefinite" nodeType="mainSeq">
                <p:childTnLst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1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943600" y="5369040"/>
            <a:ext cx="266688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477120" y="5832360"/>
            <a:ext cx="152280" cy="433440"/>
            <a:chOff x="6477120" y="5832360"/>
            <a:chExt cx="152280" cy="433440"/>
          </a:xfrm>
        </p:grpSpPr>
        <p:sp>
          <p:nvSpPr>
            <p:cNvPr id="132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54200" y="1262160"/>
            <a:ext cx="4435200" cy="4411440"/>
            <a:chOff x="754200" y="1262160"/>
            <a:chExt cx="4435200" cy="441144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754200" y="1262160"/>
              <a:ext cx="4435200" cy="44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 txBox="1"/>
            <p:nvPr/>
          </p:nvSpPr>
          <p:spPr>
            <a:xfrm>
              <a:off x="1371600" y="37004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dur="indefinite" fill="hold">
                      <p:stCondLst>
                        <p:cond delay="0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4680" y="1600200"/>
            <a:ext cx="9144000" cy="1222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4567320" y="4573440"/>
            <a:ext cx="4653000" cy="654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14508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following are advantages of</a:t>
            </a:r>
            <a:endParaRPr b="0" lang="en-US" sz="32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Partnerships, except:</a:t>
            </a:r>
            <a:endParaRPr b="0" lang="en-US" sz="32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.) Division of operating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esponsibility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B.) Mutual Agency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.) Easy formation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.) Pooled skills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905120" y="228600"/>
            <a:ext cx="26668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300 question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4" name="millionaire1.wav"/>
      </p:stSnd>
    </p:sndAc>
  </p:transition>
  <p:timing>
    <p:tnLst>
      <p:par>
        <p:cTn id="143" dur="indefinite" restart="never" fill="hold">
          <p:childTnLst>
            <p:seq>
              <p:cTn id="144" dur="indefinite" nodeType="mainSeq">
                <p:childTnLst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1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943600" y="500544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477120" y="5486400"/>
            <a:ext cx="152280" cy="779400"/>
            <a:chOff x="6477120" y="5486400"/>
            <a:chExt cx="152280" cy="779400"/>
          </a:xfrm>
        </p:grpSpPr>
        <p:sp>
          <p:nvSpPr>
            <p:cNvPr id="156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54200" y="1150920"/>
            <a:ext cx="4435200" cy="4411800"/>
            <a:chOff x="754200" y="1150920"/>
            <a:chExt cx="4435200" cy="441180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754200" y="115092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 txBox="1"/>
            <p:nvPr/>
          </p:nvSpPr>
          <p:spPr>
            <a:xfrm>
              <a:off x="1371600" y="358920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dur="indefinite" fill="hold">
                      <p:stCondLst>
                        <p:cond delay="0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9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4567320" y="5335560"/>
            <a:ext cx="4653000" cy="654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09480" y="1638360"/>
            <a:ext cx="8001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MS Gothic"/>
              </a:rPr>
              <a:t>When forming a partnership, assets should be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MS Gothic"/>
              </a:rPr>
              <a:t>Valued at: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.) NRA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B.) NBV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C.) Liquidity Valuation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D.) FMV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905120" y="228600"/>
            <a:ext cx="26668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500 question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1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2"/>
          <a:stretch/>
        </p:blipFill>
        <p:spPr>
          <a:xfrm>
            <a:off x="2133720" y="7315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3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4" name="millionaire1.wav"/>
      </p:stSnd>
    </p:sndAc>
  </p:transition>
  <p:timing>
    <p:tnLst>
      <p:par>
        <p:cTn id="184" dur="indefinite" restart="never" fill="hold">
          <p:childTnLst>
            <p:seq>
              <p:cTn id="185" dur="indefinite" nodeType="mainSeq">
                <p:childTnLst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943600" y="4648320"/>
            <a:ext cx="266688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477120" y="5122800"/>
            <a:ext cx="152280" cy="1143000"/>
            <a:chOff x="6477120" y="5122800"/>
            <a:chExt cx="152280" cy="1143000"/>
          </a:xfrm>
        </p:grpSpPr>
        <p:sp>
          <p:nvSpPr>
            <p:cNvPr id="181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54200" y="1150920"/>
            <a:ext cx="4435200" cy="4411800"/>
            <a:chOff x="754200" y="1150920"/>
            <a:chExt cx="4435200" cy="4411800"/>
          </a:xfrm>
        </p:grpSpPr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754200" y="115092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 txBox="1"/>
            <p:nvPr/>
          </p:nvSpPr>
          <p:spPr>
            <a:xfrm>
              <a:off x="1371600" y="358920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dur="indefinite" fill="hold">
                      <p:stCondLst>
                        <p:cond delay="0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4567320" y="4573440"/>
            <a:ext cx="4653000" cy="654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09480" y="152388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To record a payment of a deficiency, the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Journal entry would be: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9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1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2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.) DR Capital, Non Deficient Partners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CR Capital, Deficient Partner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4567320" y="4573440"/>
            <a:ext cx="4653000" cy="654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B.) DR Cash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CR Capital, Deficient Partner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C.) DR Cash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CR Capital, Non Deficient Partners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D.) DR Cash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CR Deficiency Expense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4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5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905120" y="228600"/>
            <a:ext cx="26668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1,000 question</a:t>
            </a:r>
            <a:endParaRPr b="0" lang="en-US" sz="2800" spc="1" strike="noStrike">
              <a:ln w="0">
                <a:noFill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8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9" name="millionaire1.wav"/>
      </p:stSnd>
    </p:sndAc>
  </p:transition>
  <p:timing>
    <p:tnLst>
      <p:par>
        <p:cTn id="225" dur="indefinite" restart="never" fill="hold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1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943600" y="430848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477120" y="4759200"/>
            <a:ext cx="152280" cy="1506600"/>
            <a:chOff x="6477120" y="4759200"/>
            <a:chExt cx="152280" cy="1506600"/>
          </a:xfrm>
        </p:grpSpPr>
        <p:sp>
          <p:nvSpPr>
            <p:cNvPr id="212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33520" y="1074600"/>
            <a:ext cx="4435200" cy="4411800"/>
            <a:chOff x="533520" y="1074600"/>
            <a:chExt cx="4435200" cy="4411800"/>
          </a:xfrm>
        </p:grpSpPr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533520" y="10746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 txBox="1"/>
            <p:nvPr/>
          </p:nvSpPr>
          <p:spPr>
            <a:xfrm>
              <a:off x="1150920" y="35132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dur="indefinite" fill="hold">
                      <p:stCondLst>
                        <p:cond delay="0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1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4567320" y="5365800"/>
            <a:ext cx="4653000" cy="654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) bonus to remaining partners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B.) Something fishy with the accounting 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C.) A bonus to the general partners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D.) A bonus to the existing partners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Tahoma"/>
              </a:rPr>
              <a:t>When admitting a new partner, if the investment</a:t>
            </a:r>
            <a:endParaRPr b="0" lang="en-US" sz="23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Tahoma"/>
              </a:rPr>
              <a:t>Is greater than the capital credit there is:</a:t>
            </a:r>
            <a:endParaRPr b="0" lang="en-US" sz="23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0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905120" y="228600"/>
            <a:ext cx="26668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2,000 question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3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4" name="millionaire1.wav"/>
      </p:stSnd>
    </p:sndAc>
  </p:transition>
  <p:timing>
    <p:tnLst>
      <p:par>
        <p:cTn id="266" dur="indefinite" restart="never" fill="hold">
          <p:childTnLst>
            <p:seq>
              <p:cTn id="267" dur="indefinite" nodeType="mainSeq">
                <p:childTnLst>
                  <p:par>
                    <p:cTn id="268" dur="indefinite" fill="hold">
                      <p:stCondLst>
                        <p:cond delay="indefinite"/>
                      </p:stCondLst>
                      <p:childTnLst>
                        <p:par>
                          <p:cTn id="2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1" dur="1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dur="indefinite" fill="hold">
                      <p:stCondLst>
                        <p:cond delay="indefinite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dur="indefinite" fill="hold">
                      <p:stCondLst>
                        <p:cond delay="indefinite"/>
                      </p:stCondLst>
                      <p:childTnLst>
                        <p:par>
                          <p:cTn id="2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The Game</a:t>
            </a:r>
            <a:endParaRPr b="0" lang="en-US" sz="4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752480"/>
            <a:ext cx="77724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ou and your team members will be asked to answer a series of questions which will increase in dollar value ($100 - $1,000,000) and difficulty.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marL="338040" indent="-338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team to reach the highest level of $ and answer the question correctly wins the game.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marL="338040" indent="-338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ach of you will be required to come up and answer 4 questions on behalf of your team.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marL="338040" indent="-338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y ONE of your team members may use any of the team’s remaining lifelines if they wish.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marL="338040" indent="-338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ood Luck!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943600" y="394488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477120" y="4402080"/>
            <a:ext cx="152280" cy="1863720"/>
            <a:chOff x="6477120" y="4402080"/>
            <a:chExt cx="152280" cy="1863720"/>
          </a:xfrm>
        </p:grpSpPr>
        <p:sp>
          <p:nvSpPr>
            <p:cNvPr id="239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33520" y="1074600"/>
            <a:ext cx="4435200" cy="4411800"/>
            <a:chOff x="533520" y="1074600"/>
            <a:chExt cx="4435200" cy="4411800"/>
          </a:xfrm>
        </p:grpSpPr>
        <p:pic>
          <p:nvPicPr>
            <p:cNvPr id="246" name="" descr=""/>
            <p:cNvPicPr/>
            <p:nvPr/>
          </p:nvPicPr>
          <p:blipFill>
            <a:blip r:embed="rId2"/>
            <a:stretch/>
          </p:blipFill>
          <p:spPr>
            <a:xfrm>
              <a:off x="533520" y="10746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 txBox="1"/>
            <p:nvPr/>
          </p:nvSpPr>
          <p:spPr>
            <a:xfrm>
              <a:off x="1150920" y="35132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dur="indefinite" fill="hold">
                      <p:stCondLst>
                        <p:cond delay="0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2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-81000" y="5334120"/>
            <a:ext cx="4653000" cy="6444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09480" y="1625760"/>
            <a:ext cx="80010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The second step in liquidating a partnership is: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.) Pay liabilities in cash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B.) Distribute remaining cash to partners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C.) Allocate gains/losses to partners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59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D) Pay liabilities with liquid assets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0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1905120" y="228600"/>
            <a:ext cx="26668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4,000 question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3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4" name="millionaire1.wav"/>
      </p:stSnd>
    </p:sndAc>
  </p:transition>
  <p:timing>
    <p:tnLst>
      <p:par>
        <p:cTn id="307" dur="indefinite" restart="never" fill="hold">
          <p:childTnLst>
            <p:seq>
              <p:cTn id="308" dur="indefinite" nodeType="mainSeq">
                <p:childTnLst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2" dur="1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dur="indefinite" fill="hold">
                      <p:stCondLst>
                        <p:cond delay="indefinite"/>
                      </p:stCondLst>
                      <p:childTnLst>
                        <p:par>
                          <p:cTn id="3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dur="indefinite" fill="hold">
                      <p:stCondLst>
                        <p:cond delay="indefinite"/>
                      </p:stCondLst>
                      <p:childTnLst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943600" y="358128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477120" y="4062240"/>
            <a:ext cx="152280" cy="2203560"/>
            <a:chOff x="6477120" y="4062240"/>
            <a:chExt cx="152280" cy="2203560"/>
          </a:xfrm>
        </p:grpSpPr>
        <p:sp>
          <p:nvSpPr>
            <p:cNvPr id="267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77120" y="40622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33520" y="1074600"/>
            <a:ext cx="4435200" cy="4411800"/>
            <a:chOff x="533520" y="1074600"/>
            <a:chExt cx="4435200" cy="4411800"/>
          </a:xfrm>
        </p:grpSpPr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533520" y="10746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 txBox="1"/>
            <p:nvPr/>
          </p:nvSpPr>
          <p:spPr>
            <a:xfrm>
              <a:off x="1150920" y="35132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dur="indefinite" fill="hold">
                      <p:stCondLst>
                        <p:cond delay="0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3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1289160"/>
            <a:ext cx="9144000" cy="1834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4567320" y="4573440"/>
            <a:ext cx="4653000" cy="6541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09480" y="152388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T. Dagg had beginning capital of $52000, </a:t>
            </a:r>
            <a:endParaRPr b="0" lang="en-US" sz="22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drawings of $12000, net income of $44000</a:t>
            </a:r>
            <a:endParaRPr b="0" lang="en-US" sz="22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shared equally with one other partner, utility bill</a:t>
            </a:r>
            <a:endParaRPr b="0" lang="en-US" sz="22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payment of $500, investments of $2000. What is her</a:t>
            </a:r>
            <a:endParaRPr b="0" lang="en-US" sz="22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ending capital?</a:t>
            </a:r>
            <a:endParaRPr b="0" lang="en-US" sz="22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.) $86000</a:t>
            </a:r>
            <a:endParaRPr b="0" lang="en-US" sz="1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86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B.)$64000</a:t>
            </a:r>
            <a:endParaRPr b="0" lang="en-US" sz="1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37048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.) $85500</a:t>
            </a:r>
            <a:endParaRPr b="0" lang="en-US" sz="1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.) $63500</a:t>
            </a:r>
            <a:endParaRPr b="0" lang="en-US" sz="1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905120" y="228600"/>
            <a:ext cx="26668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8,000 question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1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2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3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4" name="millionaire1.wav"/>
      </p:stSnd>
    </p:sndAc>
  </p:transition>
  <p:timing>
    <p:tnLst>
      <p:par>
        <p:cTn id="348" dur="indefinite" restart="never" fill="hold">
          <p:childTnLst>
            <p:seq>
              <p:cTn id="349" dur="indefinite" nodeType="mainSeq">
                <p:childTnLst>
                  <p:par>
                    <p:cTn id="350" dur="indefinite" fill="hold">
                      <p:stCondLst>
                        <p:cond delay="indefinite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3" dur="2000" fill="hold"/>
                                        <p:tgtEl>
                                          <p:spTgt spid="2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dur="indefinite" fill="hold">
                      <p:stCondLst>
                        <p:cond delay="indefinite"/>
                      </p:stCondLst>
                      <p:childTnLst>
                        <p:par>
                          <p:cTn id="3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dur="indefinite" fill="hold">
                      <p:stCondLst>
                        <p:cond delay="indefinite"/>
                      </p:stCondLst>
                      <p:childTnLst>
                        <p:par>
                          <p:cTn id="3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dur="indefinite" fill="hold">
                      <p:stCondLst>
                        <p:cond delay="indefinite"/>
                      </p:stCondLst>
                      <p:childTnLst>
                        <p:par>
                          <p:cTn id="3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dur="indefinite" fill="hold">
                      <p:stCondLst>
                        <p:cond delay="indefinite"/>
                      </p:stCondLst>
                      <p:childTnLst>
                        <p:par>
                          <p:cTn id="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dur="indefinite" fill="hold">
                      <p:stCondLst>
                        <p:cond delay="indefinite"/>
                      </p:stCondLst>
                      <p:childTnLst>
                        <p:par>
                          <p:cTn id="3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943600" y="323532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477120" y="3692520"/>
            <a:ext cx="152280" cy="2573280"/>
            <a:chOff x="6477120" y="3692520"/>
            <a:chExt cx="152280" cy="2573280"/>
          </a:xfrm>
        </p:grpSpPr>
        <p:sp>
          <p:nvSpPr>
            <p:cNvPr id="296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77120" y="47530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77120" y="43894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77120" y="40323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477120" y="3692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33520" y="1074600"/>
            <a:ext cx="4435200" cy="4411800"/>
            <a:chOff x="533520" y="1074600"/>
            <a:chExt cx="4435200" cy="4411800"/>
          </a:xfrm>
        </p:grpSpPr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533520" y="10746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 txBox="1"/>
            <p:nvPr/>
          </p:nvSpPr>
          <p:spPr>
            <a:xfrm>
              <a:off x="1150920" y="35132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dur="indefinite" fill="hold">
                      <p:stCondLst>
                        <p:cond delay="0"/>
                      </p:stCondLst>
                      <p:childTnLst>
                        <p:par>
                          <p:cTn id="3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4" dur="500" fill="hold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4567320" y="5340240"/>
            <a:ext cx="4653000" cy="654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620120" y="6473880"/>
            <a:ext cx="444240" cy="3078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064360" y="6478560"/>
            <a:ext cx="470160" cy="30312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rId13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17" name="">
            <a:hlinkClick r:id="rId14" action="ppaction://hlinksldjump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Tahoma"/>
              </a:rPr>
              <a:t>W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partnership of Fehr and Selig reports net income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f $30,000. The partners share equally in income and losses.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entry to record the partners' share of net income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ill include a: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.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redit to Income Summary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for $30,000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20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B.)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ebit to Selig, Capital for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$15,000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.)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redit to Fehr, Drawings for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$15,000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.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redit to Fehr, Capital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$15,000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905120" y="228600"/>
            <a:ext cx="37335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16,000 question</a:t>
            </a:r>
            <a:endParaRPr b="0" lang="en-US" sz="2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7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18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9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0" name="millionaire1.wav"/>
      </p:stSnd>
    </p:sndAc>
  </p:transition>
  <p:timing>
    <p:tnLst>
      <p:par>
        <p:cTn id="389" dur="indefinite" restart="never" fill="hold">
          <p:childTnLst>
            <p:seq>
              <p:cTn id="390" dur="indefinite" nodeType="mainSeq">
                <p:childTnLst>
                  <p:par>
                    <p:cTn id="391" dur="indefinite" fill="hold">
                      <p:stCondLst>
                        <p:cond delay="indefinite"/>
                      </p:stCondLst>
                      <p:childTnLst>
                        <p:par>
                          <p:cTn id="3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4" dur="10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dur="indefinite" fill="hold">
                      <p:stCondLst>
                        <p:cond delay="indefinite"/>
                      </p:stCondLst>
                      <p:childTnLst>
                        <p:par>
                          <p:cTn id="3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dur="indefinite" fill="hold">
                      <p:stCondLst>
                        <p:cond delay="indefinite"/>
                      </p:stCondLst>
                      <p:childTnLst>
                        <p:par>
                          <p:cTn id="4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dur="indefinite" fill="hold">
                      <p:stCondLst>
                        <p:cond delay="indefinite"/>
                      </p:stCondLst>
                      <p:childTnLst>
                        <p:par>
                          <p:cTn id="4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dur="indefinite" fill="hold">
                      <p:stCondLst>
                        <p:cond delay="indefinite"/>
                      </p:stCondLst>
                      <p:childTnLst>
                        <p:par>
                          <p:cTn id="4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dur="indefinite" fill="hold">
                      <p:stCondLst>
                        <p:cond delay="indefinite"/>
                      </p:stCondLst>
                      <p:childTnLst>
                        <p:par>
                          <p:cTn id="4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5867280" y="2854440"/>
            <a:ext cx="266724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477120" y="3335400"/>
            <a:ext cx="152280" cy="2930400"/>
            <a:chOff x="6477120" y="3335400"/>
            <a:chExt cx="152280" cy="2930400"/>
          </a:xfrm>
        </p:grpSpPr>
        <p:sp>
          <p:nvSpPr>
            <p:cNvPr id="330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77120" y="43959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77120" y="40323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7120" y="36752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77120" y="33354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33520" y="1074600"/>
            <a:ext cx="4435200" cy="4411800"/>
            <a:chOff x="533520" y="1074600"/>
            <a:chExt cx="4435200" cy="4411800"/>
          </a:xfrm>
        </p:grpSpPr>
        <p:pic>
          <p:nvPicPr>
            <p:cNvPr id="340" name="" descr=""/>
            <p:cNvPicPr/>
            <p:nvPr/>
          </p:nvPicPr>
          <p:blipFill>
            <a:blip r:embed="rId2"/>
            <a:stretch/>
          </p:blipFill>
          <p:spPr>
            <a:xfrm>
              <a:off x="533520" y="10746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 txBox="1"/>
            <p:nvPr/>
          </p:nvSpPr>
          <p:spPr>
            <a:xfrm>
              <a:off x="1150920" y="35132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dur="indefinite" fill="hold">
                      <p:stCondLst>
                        <p:cond delay="0"/>
                      </p:stCondLst>
                      <p:childTnLst>
                        <p:par>
                          <p:cTn id="4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5" dur="500" fill="hold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6"/>
          <a:stretch/>
        </p:blipFill>
        <p:spPr>
          <a:xfrm>
            <a:off x="-81000" y="5318280"/>
            <a:ext cx="4653000" cy="6444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artner A receives $60,000 and Partner B receives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$40,000 in a split of $100,000 net income. Whic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xpression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es not reflect the income splitting arrangement?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.) 3:2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B.) 3/5 and 2/5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52" name=""/>
          <p:cNvSpPr/>
          <p:nvPr/>
        </p:nvSpPr>
        <p:spPr>
          <a:xfrm>
            <a:off x="533520" y="53532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.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:1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.) 6:4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905120" y="228600"/>
            <a:ext cx="396216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32,000 question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1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2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3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4" name="millionaire1.wav"/>
      </p:stSnd>
    </p:sndAc>
  </p:transition>
  <p:timing>
    <p:tnLst>
      <p:par>
        <p:cTn id="430" dur="indefinite" restart="never" fill="hold">
          <p:childTnLst>
            <p:seq>
              <p:cTn id="431" dur="indefinite" nodeType="mainSeq">
                <p:childTnLst>
                  <p:par>
                    <p:cTn id="432" dur="indefinite" fill="hold">
                      <p:stCondLst>
                        <p:cond delay="indefinite"/>
                      </p:stCondLst>
                      <p:childTnLst>
                        <p:par>
                          <p:cTn id="4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5" dur="1000" fill="hold"/>
                                        <p:tgtEl>
                                          <p:spTgt spid="3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dur="indefinite" fill="hold">
                      <p:stCondLst>
                        <p:cond delay="indefinite"/>
                      </p:stCondLst>
                      <p:childTnLst>
                        <p:par>
                          <p:cTn id="4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dur="indefinite" fill="hold">
                      <p:stCondLst>
                        <p:cond delay="indefinite"/>
                      </p:stCondLst>
                      <p:childTnLst>
                        <p:par>
                          <p:cTn id="4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dur="indefinite" fill="hold">
                      <p:stCondLst>
                        <p:cond delay="indefinite"/>
                      </p:stCondLst>
                      <p:childTnLst>
                        <p:par>
                          <p:cTn id="4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dur="indefinite" fill="hold">
                      <p:stCondLst>
                        <p:cond delay="indefinite"/>
                      </p:stCondLst>
                      <p:childTnLst>
                        <p:par>
                          <p:cTn id="4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dur="indefinite" fill="hold">
                      <p:stCondLst>
                        <p:cond delay="indefinite"/>
                      </p:stCondLst>
                      <p:childTnLst>
                        <p:par>
                          <p:cTn id="4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dur="indefinite" fill="hold">
                      <p:stCondLst>
                        <p:cond delay="indefinite"/>
                      </p:stCondLst>
                      <p:childTnLst>
                        <p:par>
                          <p:cTn id="4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5867280" y="251460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6477120" y="2978280"/>
            <a:ext cx="152280" cy="3287520"/>
            <a:chOff x="6477120" y="2978280"/>
            <a:chExt cx="152280" cy="3287520"/>
          </a:xfrm>
        </p:grpSpPr>
        <p:sp>
          <p:nvSpPr>
            <p:cNvPr id="361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77120" y="44085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77120" y="40384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77120" y="36752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77120" y="33177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77120" y="29782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33520" y="1074600"/>
            <a:ext cx="4435200" cy="4411800"/>
            <a:chOff x="533520" y="1074600"/>
            <a:chExt cx="4435200" cy="4411800"/>
          </a:xfrm>
        </p:grpSpPr>
        <p:pic>
          <p:nvPicPr>
            <p:cNvPr id="372" name="" descr=""/>
            <p:cNvPicPr/>
            <p:nvPr/>
          </p:nvPicPr>
          <p:blipFill>
            <a:blip r:embed="rId2"/>
            <a:stretch/>
          </p:blipFill>
          <p:spPr>
            <a:xfrm>
              <a:off x="533520" y="10746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 txBox="1"/>
            <p:nvPr/>
          </p:nvSpPr>
          <p:spPr>
            <a:xfrm>
              <a:off x="1150920" y="35132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dur="indefinite" fill="hold">
                      <p:stCondLst>
                        <p:cond delay="0"/>
                      </p:stCondLst>
                      <p:childTnLst>
                        <p:par>
                          <p:cTn id="4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6" dur="500" fill="hold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0" y="1289160"/>
            <a:ext cx="9144000" cy="18349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6"/>
          <a:stretch/>
        </p:blipFill>
        <p:spPr>
          <a:xfrm>
            <a:off x="-81000" y="4575240"/>
            <a:ext cx="4653000" cy="6444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09480" y="14508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The partners’ drawing accounts are: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46483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A.)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losed to the partners’ capital 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accounts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83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B.) Reported on the income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statement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84" name=""/>
          <p:cNvSpPr/>
          <p:nvPr/>
        </p:nvSpPr>
        <p:spPr>
          <a:xfrm>
            <a:off x="533520" y="5410080"/>
            <a:ext cx="3581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.)  Reported on the balance sheet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54100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D.) Closed to Income Summary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905120" y="228600"/>
            <a:ext cx="49528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64,000 question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1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12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3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4" name="millionaire1.wav"/>
      </p:stSnd>
    </p:sndAc>
  </p:transition>
  <p:timing>
    <p:tnLst>
      <p:par>
        <p:cTn id="471" dur="indefinite" restart="never" fill="hold">
          <p:childTnLst>
            <p:seq>
              <p:cTn id="472" dur="indefinite" nodeType="mainSeq">
                <p:childTnLst>
                  <p:par>
                    <p:cTn id="473" dur="indefinite" fill="hold">
                      <p:stCondLst>
                        <p:cond delay="indefinite"/>
                      </p:stCondLst>
                      <p:childTnLst>
                        <p:par>
                          <p:cTn id="4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6" dur="1000" fill="hold"/>
                                        <p:tgtEl>
                                          <p:spTgt spid="3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dur="indefinite" fill="hold">
                      <p:stCondLst>
                        <p:cond delay="indefinite"/>
                      </p:stCondLst>
                      <p:childTnLst>
                        <p:par>
                          <p:cTn id="4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dur="indefinite" fill="hold">
                      <p:stCondLst>
                        <p:cond delay="indefinite"/>
                      </p:stCondLst>
                      <p:childTnLst>
                        <p:par>
                          <p:cTn id="4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dur="indefinite" fill="hold">
                      <p:stCondLst>
                        <p:cond delay="indefinite"/>
                      </p:stCondLst>
                      <p:childTnLst>
                        <p:par>
                          <p:cTn id="4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dur="indefinite" fill="hold">
                      <p:stCondLst>
                        <p:cond delay="indefinite"/>
                      </p:stCondLst>
                      <p:childTnLst>
                        <p:par>
                          <p:cTn id="4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dur="indefinite" fill="hold">
                      <p:stCondLst>
                        <p:cond delay="indefinite"/>
                      </p:stCondLst>
                      <p:childTnLst>
                        <p:par>
                          <p:cTn id="4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dur="indefinite" fill="hold">
                      <p:stCondLst>
                        <p:cond delay="indefinite"/>
                      </p:stCondLst>
                      <p:childTnLst>
                        <p:par>
                          <p:cTn id="4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Impact"/>
              </a:rPr>
              <a:t>Your Lifelines</a:t>
            </a:r>
            <a:endParaRPr b="0" lang="en-US" sz="60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rcRect l="51648" t="21878" r="43608" b="72929"/>
          <a:stretch/>
        </p:blipFill>
        <p:spPr>
          <a:xfrm>
            <a:off x="685800" y="2133720"/>
            <a:ext cx="2514600" cy="2070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-380880" y="2133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-380880" y="5181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5" action="ppaction://hlinksldjump"/>
          </p:cNvPr>
          <p:cNvPicPr/>
          <p:nvPr/>
        </p:nvPicPr>
        <p:blipFill>
          <a:blip r:embed="rId6"/>
          <a:srcRect l="61150" t="21878" r="34254" b="72929"/>
          <a:stretch/>
        </p:blipFill>
        <p:spPr>
          <a:xfrm>
            <a:off x="5867280" y="2133720"/>
            <a:ext cx="2438640" cy="2070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7" action="ppaction://hlinksldjump"/>
          </p:cNvPr>
          <p:cNvPicPr/>
          <p:nvPr/>
        </p:nvPicPr>
        <p:blipFill>
          <a:blip r:embed="rId8"/>
          <a:srcRect l="56687" t="21878" r="39001" b="72929"/>
          <a:stretch/>
        </p:blipFill>
        <p:spPr>
          <a:xfrm>
            <a:off x="3352680" y="2133720"/>
            <a:ext cx="2286000" cy="207000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9" action="ppaction://hlinksldjump"/>
          </p:cNvPr>
          <p:cNvSpPr/>
          <p:nvPr/>
        </p:nvSpPr>
        <p:spPr>
          <a:xfrm>
            <a:off x="7315200" y="54864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5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5" y="20200"/>
                </a:lnTo>
                <a:lnTo>
                  <a:pt x="27395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5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5" h="21600">
                <a:moveTo>
                  <a:pt x="7391" y="3794"/>
                </a:moveTo>
                <a:lnTo>
                  <a:pt x="21404" y="10800"/>
                </a:lnTo>
                <a:lnTo>
                  <a:pt x="7391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 Black"/>
                <a:ea typeface="Tahoma"/>
              </a:rPr>
              <a:t>Let’s Play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4267080" y="7315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7010280" y="7162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16002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fill="hold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5867280" y="215100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477120" y="2611440"/>
            <a:ext cx="152280" cy="3654360"/>
            <a:chOff x="6477120" y="2611440"/>
            <a:chExt cx="152280" cy="3654360"/>
          </a:xfrm>
        </p:grpSpPr>
        <p:sp>
          <p:nvSpPr>
            <p:cNvPr id="393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77120" y="51195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77120" y="47563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77120" y="43988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77120" y="40417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77120" y="3672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77120" y="3308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77120" y="29512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77120" y="26114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33520" y="1074600"/>
            <a:ext cx="4435200" cy="4411800"/>
            <a:chOff x="533520" y="1074600"/>
            <a:chExt cx="4435200" cy="4411800"/>
          </a:xfrm>
        </p:grpSpPr>
        <p:pic>
          <p:nvPicPr>
            <p:cNvPr id="406" name="" descr=""/>
            <p:cNvPicPr/>
            <p:nvPr/>
          </p:nvPicPr>
          <p:blipFill>
            <a:blip r:embed="rId2"/>
            <a:stretch/>
          </p:blipFill>
          <p:spPr>
            <a:xfrm>
              <a:off x="533520" y="10746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 txBox="1"/>
            <p:nvPr/>
          </p:nvSpPr>
          <p:spPr>
            <a:xfrm>
              <a:off x="1150920" y="35132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dur="indefinite" fill="hold">
                      <p:stCondLst>
                        <p:cond delay="0"/>
                      </p:stCondLst>
                      <p:childTnLst>
                        <p:par>
                          <p:cTn id="5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7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6"/>
          <a:stretch/>
        </p:blipFill>
        <p:spPr>
          <a:xfrm>
            <a:off x="-81000" y="4572000"/>
            <a:ext cx="4653000" cy="6444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609480" y="1612800"/>
            <a:ext cx="800100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The Cliff and Mohumad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agreement stipulates that profits and losses 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will be shared  equally after salary allowances of $40,000 for Cliff and $20,000 for 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Mohumad. At the beginning  of the year, Cliff's Capital account had a balance of $80,000, 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while Mohumad's Capital  account had a balance of $70,000. Net income for the year was 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$50,000. The balance of Mohumad's Capital account at the end of the year after 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closing is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0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.) $85000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46483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Tahoma"/>
              </a:rPr>
              <a:t>B.) $90000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0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Tahoma"/>
              </a:rPr>
              <a:t>C.) $95000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54100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D.) 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Tahoma"/>
              </a:rPr>
              <a:t>$20000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905120" y="228600"/>
            <a:ext cx="579096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125,000 question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3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14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15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6" name="millionaire1.wav"/>
      </p:stSnd>
    </p:sndAc>
  </p:transition>
  <p:timing>
    <p:tnLst>
      <p:par>
        <p:cTn id="512" dur="indefinite" restart="never" fill="hold">
          <p:childTnLst>
            <p:seq>
              <p:cTn id="513" dur="indefinite" nodeType="mainSeq">
                <p:childTnLst>
                  <p:par>
                    <p:cTn id="514" dur="indefinite" fill="hold">
                      <p:stCondLst>
                        <p:cond delay="indefinite"/>
                      </p:stCondLst>
                      <p:childTnLst>
                        <p:par>
                          <p:cTn id="5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7" dur="2000" fill="hold"/>
                                        <p:tgtEl>
                                          <p:spTgt spid="4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dur="indefinite" fill="hold">
                      <p:stCondLst>
                        <p:cond delay="indefinite"/>
                      </p:stCondLst>
                      <p:childTnLst>
                        <p:par>
                          <p:cTn id="5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dur="indefinite" fill="hold">
                      <p:stCondLst>
                        <p:cond delay="indefinite"/>
                      </p:stCondLst>
                      <p:childTnLst>
                        <p:par>
                          <p:cTn id="5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dur="indefinite" fill="hold">
                      <p:stCondLst>
                        <p:cond delay="indefinite"/>
                      </p:stCondLst>
                      <p:childTnLst>
                        <p:par>
                          <p:cTn id="5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dur="indefinite" fill="hold">
                      <p:stCondLst>
                        <p:cond delay="indefinite"/>
                      </p:stCondLst>
                      <p:childTnLst>
                        <p:par>
                          <p:cTn id="5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dur="indefinite" fill="hold">
                      <p:stCondLst>
                        <p:cond delay="indefinite"/>
                      </p:stCondLst>
                      <p:childTnLst>
                        <p:par>
                          <p:cTn id="5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dur="indefinite" fill="hold">
                      <p:stCondLst>
                        <p:cond delay="indefinite"/>
                      </p:stCondLst>
                      <p:childTnLst>
                        <p:par>
                          <p:cTn id="5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867280" y="178740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6477120" y="2257560"/>
            <a:ext cx="152280" cy="4008240"/>
            <a:chOff x="6477120" y="2257560"/>
            <a:chExt cx="152280" cy="4008240"/>
          </a:xfrm>
        </p:grpSpPr>
        <p:sp>
          <p:nvSpPr>
            <p:cNvPr id="429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77120" y="47642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77120" y="44179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477120" y="40543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77120" y="40514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77120" y="3687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77120" y="33307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29732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77120" y="2603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77120" y="22575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33520" y="1074600"/>
            <a:ext cx="4435200" cy="4411800"/>
            <a:chOff x="533520" y="1074600"/>
            <a:chExt cx="4435200" cy="4411800"/>
          </a:xfrm>
        </p:grpSpPr>
        <p:pic>
          <p:nvPicPr>
            <p:cNvPr id="443" name="" descr=""/>
            <p:cNvPicPr/>
            <p:nvPr/>
          </p:nvPicPr>
          <p:blipFill>
            <a:blip r:embed="rId2"/>
            <a:stretch/>
          </p:blipFill>
          <p:spPr>
            <a:xfrm>
              <a:off x="533520" y="10746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 txBox="1"/>
            <p:nvPr/>
          </p:nvSpPr>
          <p:spPr>
            <a:xfrm>
              <a:off x="1150920" y="35132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dur="indefinite" fill="hold">
                      <p:stCondLst>
                        <p:cond delay="0"/>
                      </p:stCondLst>
                      <p:childTnLst>
                        <p:par>
                          <p:cTn id="5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8" dur="500" fill="hold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20574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6"/>
          <a:stretch/>
        </p:blipFill>
        <p:spPr>
          <a:xfrm>
            <a:off x="-81000" y="5345280"/>
            <a:ext cx="4653000" cy="64440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620120" y="6473880"/>
            <a:ext cx="444240" cy="3078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064360" y="6478560"/>
            <a:ext cx="470160" cy="303120"/>
          </a:xfrm>
          <a:prstGeom prst="rect">
            <a:avLst/>
          </a:prstGeom>
          <a:ln w="0">
            <a:noFill/>
          </a:ln>
        </p:spPr>
      </p:pic>
      <p:sp>
        <p:nvSpPr>
          <p:cNvPr id="454" name="">
            <a:hlinkClick r:id="rId13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55" name="">
            <a:hlinkClick r:id="rId14" action="ppaction://hlinksldjump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Tahoma"/>
              </a:rPr>
              <a:t>W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20574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ane and Ping have partnership capital account balances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f $120,000 and $90,000, respectively and share profits and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osses equally. Sue is admitted to the partnership by investing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$50,000 for a one-fourth ownership interest. The balance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f Ping's Capital account after Sue is admitted i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57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.) $97500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58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B.) $65000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59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C.)     $82500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60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D.) $90000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905120" y="228600"/>
            <a:ext cx="647676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250,000 question</a:t>
            </a:r>
            <a:endParaRPr b="0" lang="en-US" sz="2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7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8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9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0" name="millionaire1.wav"/>
      </p:stSnd>
    </p:sndAc>
  </p:transition>
  <p:timing>
    <p:tnLst>
      <p:par>
        <p:cTn id="553" dur="indefinite" restart="never" fill="hold">
          <p:childTnLst>
            <p:seq>
              <p:cTn id="554" dur="indefinite" nodeType="mainSeq">
                <p:childTnLst>
                  <p:par>
                    <p:cTn id="555" dur="indefinite" fill="hold">
                      <p:stCondLst>
                        <p:cond delay="indefinite"/>
                      </p:stCondLst>
                      <p:childTnLst>
                        <p:par>
                          <p:cTn id="5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8" dur="1000" fill="hold"/>
                                        <p:tgtEl>
                                          <p:spTgt spid="4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dur="indefinite" fill="hold">
                      <p:stCondLst>
                        <p:cond delay="indefinite"/>
                      </p:stCondLst>
                      <p:childTnLst>
                        <p:par>
                          <p:cTn id="5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dur="indefinite" fill="hold">
                      <p:stCondLst>
                        <p:cond delay="indefinite"/>
                      </p:stCondLst>
                      <p:childTnLst>
                        <p:par>
                          <p:cTn id="5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dur="indefinite" fill="hold">
                      <p:stCondLst>
                        <p:cond delay="indefinite"/>
                      </p:stCondLst>
                      <p:childTnLst>
                        <p:par>
                          <p:cTn id="5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dur="indefinite" fill="hold">
                      <p:stCondLst>
                        <p:cond delay="indefinite"/>
                      </p:stCondLst>
                      <p:childTnLst>
                        <p:par>
                          <p:cTn id="5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dur="indefinite" fill="hold">
                      <p:stCondLst>
                        <p:cond delay="indefinite"/>
                      </p:stCondLst>
                      <p:childTnLst>
                        <p:par>
                          <p:cTn id="5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dur="indefinite" fill="hold">
                      <p:stCondLst>
                        <p:cond delay="indefinite"/>
                      </p:stCondLst>
                      <p:childTnLst>
                        <p:par>
                          <p:cTn id="5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5867280" y="143028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477120" y="1893960"/>
            <a:ext cx="152280" cy="4371840"/>
            <a:chOff x="6477120" y="1893960"/>
            <a:chExt cx="152280" cy="4371840"/>
          </a:xfrm>
        </p:grpSpPr>
        <p:sp>
          <p:nvSpPr>
            <p:cNvPr id="468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44006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77120" y="40543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477120" y="36910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77120" y="3687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77120" y="33242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77120" y="29671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77120" y="2610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77120" y="22399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77120" y="18939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33520" y="1074600"/>
            <a:ext cx="4435200" cy="4411800"/>
            <a:chOff x="533520" y="1074600"/>
            <a:chExt cx="4435200" cy="4411800"/>
          </a:xfrm>
        </p:grpSpPr>
        <p:pic>
          <p:nvPicPr>
            <p:cNvPr id="484" name="" descr=""/>
            <p:cNvPicPr/>
            <p:nvPr/>
          </p:nvPicPr>
          <p:blipFill>
            <a:blip r:embed="rId2"/>
            <a:stretch/>
          </p:blipFill>
          <p:spPr>
            <a:xfrm>
              <a:off x="533520" y="10746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 txBox="1"/>
            <p:nvPr/>
          </p:nvSpPr>
          <p:spPr>
            <a:xfrm>
              <a:off x="1150920" y="35132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dur="indefinite" fill="hold">
                      <p:stCondLst>
                        <p:cond delay="0"/>
                      </p:stCondLst>
                      <p:childTnLst>
                        <p:par>
                          <p:cTn id="5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9" dur="500" fill="hold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15242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6"/>
          <a:stretch/>
        </p:blipFill>
        <p:spPr>
          <a:xfrm>
            <a:off x="4572000" y="5365800"/>
            <a:ext cx="4653000" cy="6541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609480" y="1441440"/>
            <a:ext cx="80010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Partners A, B, and C have capital account balances of </a:t>
            </a:r>
            <a:endParaRPr b="0" lang="en-US" sz="19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$60,000 each. The income and loss ratio is 5:2:3, respectively. </a:t>
            </a:r>
            <a:endParaRPr b="0" lang="en-US" sz="19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In the process of liquidating the partnership, noncash assets with</a:t>
            </a:r>
            <a:endParaRPr b="0" lang="en-US" sz="19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a book value of $50,000 are sold for $20,000. The balance of </a:t>
            </a:r>
            <a:endParaRPr b="0" lang="en-US" sz="19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Partner B's Capital account after the sale i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94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.) $45000 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95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B.) $66000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96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C.) $51000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D.) $54000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600200" y="228600"/>
            <a:ext cx="670572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500,000 question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1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2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3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4" name="millionaire1.wav"/>
      </p:stSnd>
    </p:sndAc>
  </p:transition>
  <p:timing>
    <p:tnLst>
      <p:par>
        <p:cTn id="594" dur="indefinite" restart="never" fill="hold">
          <p:childTnLst>
            <p:seq>
              <p:cTn id="595" dur="indefinite" nodeType="mainSeq">
                <p:childTnLst>
                  <p:par>
                    <p:cTn id="596" dur="indefinite" fill="hold">
                      <p:stCondLst>
                        <p:cond delay="indefinite"/>
                      </p:stCondLst>
                      <p:childTnLst>
                        <p:par>
                          <p:cTn id="5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9" dur="1000" fill="hold"/>
                                        <p:tgtEl>
                                          <p:spTgt spid="4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dur="indefinite" fill="hold">
                      <p:stCondLst>
                        <p:cond delay="indefinite"/>
                      </p:stCondLst>
                      <p:childTnLst>
                        <p:par>
                          <p:cTn id="6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dur="indefinite" fill="hold">
                      <p:stCondLst>
                        <p:cond delay="indefinite"/>
                      </p:stCondLst>
                      <p:childTnLst>
                        <p:par>
                          <p:cTn id="6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dur="indefinite" fill="hold">
                      <p:stCondLst>
                        <p:cond delay="indefinite"/>
                      </p:stCondLst>
                      <p:childTnLst>
                        <p:par>
                          <p:cTn id="6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dur="indefinite" fill="hold">
                      <p:stCondLst>
                        <p:cond delay="indefinite"/>
                      </p:stCondLst>
                      <p:childTnLst>
                        <p:par>
                          <p:cTn id="6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dur="indefinite" fill="hold">
                      <p:stCondLst>
                        <p:cond delay="indefinite"/>
                      </p:stCondLst>
                      <p:childTnLst>
                        <p:par>
                          <p:cTn id="6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dur="indefinite" fill="hold">
                      <p:stCondLst>
                        <p:cond delay="indefinite"/>
                      </p:stCondLst>
                      <p:childTnLst>
                        <p:par>
                          <p:cTn id="6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5867280" y="1073160"/>
            <a:ext cx="2971800" cy="30492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6477120" y="1536840"/>
            <a:ext cx="152280" cy="4728960"/>
            <a:chOff x="6477120" y="1536840"/>
            <a:chExt cx="152280" cy="4728960"/>
          </a:xfrm>
        </p:grpSpPr>
        <p:sp>
          <p:nvSpPr>
            <p:cNvPr id="505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77120" y="40435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77120" y="3697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77120" y="33336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77120" y="33307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77120" y="29671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77120" y="2610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77120" y="2252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77120" y="188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77120" y="1536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33520" y="1074600"/>
            <a:ext cx="4435200" cy="4411800"/>
            <a:chOff x="533520" y="1074600"/>
            <a:chExt cx="4435200" cy="4411800"/>
          </a:xfrm>
        </p:grpSpPr>
        <p:pic>
          <p:nvPicPr>
            <p:cNvPr id="521" name="" descr=""/>
            <p:cNvPicPr/>
            <p:nvPr/>
          </p:nvPicPr>
          <p:blipFill>
            <a:blip r:embed="rId2"/>
            <a:stretch/>
          </p:blipFill>
          <p:spPr>
            <a:xfrm>
              <a:off x="533520" y="10746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 txBox="1"/>
            <p:nvPr/>
          </p:nvSpPr>
          <p:spPr>
            <a:xfrm>
              <a:off x="1150920" y="35132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dur="indefinite" fill="hold">
                      <p:stCondLst>
                        <p:cond delay="0"/>
                      </p:stCondLst>
                      <p:childTnLst>
                        <p:par>
                          <p:cTn id="6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0" dur="500" fill="hold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4500720" y="4564080"/>
            <a:ext cx="4647960" cy="6555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6"/>
          <a:stretch/>
        </p:blipFill>
        <p:spPr>
          <a:xfrm>
            <a:off x="4567320" y="5335560"/>
            <a:ext cx="4653000" cy="65412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620120" y="6473880"/>
            <a:ext cx="444240" cy="3078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064360" y="6478560"/>
            <a:ext cx="470160" cy="303120"/>
          </a:xfrm>
          <a:prstGeom prst="rect">
            <a:avLst/>
          </a:prstGeom>
          <a:ln w="0">
            <a:noFill/>
          </a:ln>
        </p:spPr>
      </p:pic>
      <p:sp>
        <p:nvSpPr>
          <p:cNvPr id="532" name="">
            <a:hlinkClick r:id="rId13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33" name="">
            <a:hlinkClick r:id="rId14" action="ppaction://hlinksldjump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Tahoma"/>
              </a:rPr>
              <a:t>W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34" name=""/>
          <p:cNvSpPr/>
          <p:nvPr/>
        </p:nvSpPr>
        <p:spPr>
          <a:xfrm>
            <a:off x="571680" y="175248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ich of the following teachers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s your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ahoma"/>
              </a:rPr>
              <a:t>favourite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business teacher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t WOSS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35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.) Mr. Bhathal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.) Mr. Huitema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37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.) Ms. Ivey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38" name=""/>
          <p:cNvSpPr/>
          <p:nvPr/>
        </p:nvSpPr>
        <p:spPr>
          <a:xfrm>
            <a:off x="4876920" y="53802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.) Ms. Dag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371600" y="228600"/>
            <a:ext cx="746748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1,000,000 question</a:t>
            </a:r>
            <a:endParaRPr b="0" lang="en-US" sz="2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7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8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9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0" name="millionaire1.wav"/>
      </p:stSnd>
    </p:sndAc>
  </p:transition>
  <p:timing>
    <p:tnLst>
      <p:par>
        <p:cTn id="635" dur="indefinite" restart="never" fill="hold">
          <p:childTnLst>
            <p:seq>
              <p:cTn id="636" dur="indefinite" nodeType="mainSeq">
                <p:childTnLst>
                  <p:par>
                    <p:cTn id="637" dur="indefinite" fill="hold">
                      <p:stCondLst>
                        <p:cond delay="indefinite"/>
                      </p:stCondLst>
                      <p:childTnLst>
                        <p:par>
                          <p:cTn id="6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0" dur="1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dur="indefinite" fill="hold">
                      <p:stCondLst>
                        <p:cond delay="indefinite"/>
                      </p:stCondLst>
                      <p:childTnLst>
                        <p:par>
                          <p:cTn id="6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dur="indefinite" fill="hold">
                      <p:stCondLst>
                        <p:cond delay="indefinite"/>
                      </p:stCondLst>
                      <p:childTnLst>
                        <p:par>
                          <p:cTn id="6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dur="indefinite" fill="hold">
                      <p:stCondLst>
                        <p:cond delay="indefinite"/>
                      </p:stCondLst>
                      <p:childTnLst>
                        <p:par>
                          <p:cTn id="6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dur="indefinite" fill="hold">
                      <p:stCondLst>
                        <p:cond delay="indefinite"/>
                      </p:stCondLst>
                      <p:childTnLst>
                        <p:par>
                          <p:cTn id="6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dur="indefinite" fill="hold">
                      <p:stCondLst>
                        <p:cond delay="indefinite"/>
                      </p:stCondLst>
                      <p:childTnLst>
                        <p:par>
                          <p:cTn id="6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dur="indefinite" fill="hold">
                      <p:stCondLst>
                        <p:cond delay="indefinite"/>
                      </p:stCondLst>
                      <p:childTnLst>
                        <p:par>
                          <p:cTn id="6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5867280" y="1073160"/>
            <a:ext cx="2971800" cy="30492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477120" y="1536840"/>
            <a:ext cx="152280" cy="4728960"/>
            <a:chOff x="6477120" y="1536840"/>
            <a:chExt cx="152280" cy="4728960"/>
          </a:xfrm>
        </p:grpSpPr>
        <p:sp>
          <p:nvSpPr>
            <p:cNvPr id="546" name="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77120" y="40435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477120" y="3697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7120" y="33336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7120" y="33307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477120" y="29671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477120" y="2610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77120" y="2252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77120" y="188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477120" y="1536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533520" y="1074600"/>
            <a:ext cx="4435200" cy="4411800"/>
            <a:chOff x="533520" y="1074600"/>
            <a:chExt cx="4435200" cy="4411800"/>
          </a:xfrm>
        </p:grpSpPr>
        <p:pic>
          <p:nvPicPr>
            <p:cNvPr id="562" name="" descr=""/>
            <p:cNvPicPr/>
            <p:nvPr/>
          </p:nvPicPr>
          <p:blipFill>
            <a:blip r:embed="rId2"/>
            <a:stretch/>
          </p:blipFill>
          <p:spPr>
            <a:xfrm>
              <a:off x="533520" y="107460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 txBox="1"/>
            <p:nvPr/>
          </p:nvSpPr>
          <p:spPr>
            <a:xfrm>
              <a:off x="1150920" y="351324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  <p:sndAc>
      <p:stSnd>
        <p:snd r:embed="rId3" name="ccheer.wav"/>
      </p:stSnd>
    </p:sndAc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dur="indefinite" fill="hold">
                      <p:stCondLst>
                        <p:cond delay="0"/>
                      </p:stCondLst>
                      <p:childTnLst>
                        <p:par>
                          <p:cTn id="6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1" dur="500" fill="hold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4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6"/>
          <a:stretch/>
        </p:blipFill>
        <p:spPr>
          <a:xfrm>
            <a:off x="4567320" y="5335560"/>
            <a:ext cx="4653000" cy="6541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620120" y="6473880"/>
            <a:ext cx="444240" cy="30780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064360" y="6478560"/>
            <a:ext cx="470160" cy="303120"/>
          </a:xfrm>
          <a:prstGeom prst="rect">
            <a:avLst/>
          </a:prstGeom>
          <a:ln w="0">
            <a:noFill/>
          </a:ln>
        </p:spPr>
      </p:pic>
      <p:sp>
        <p:nvSpPr>
          <p:cNvPr id="573" name="">
            <a:hlinkClick r:id="rId13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74" name="">
            <a:hlinkClick r:id="rId14" action="ppaction://hlinksldjump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Tahoma"/>
              </a:rPr>
              <a:t>W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75" name=""/>
          <p:cNvSpPr/>
          <p:nvPr/>
        </p:nvSpPr>
        <p:spPr>
          <a:xfrm>
            <a:off x="1143000" y="182880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Given the following information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bout ABC Company, what is their Quick Ratio?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ash = $1,000,000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A/P = $1,200,000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GIC’s/Stocks/Bonds = $500,000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N/P (3 month) = $800,000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A/R (net) = $500,000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Bank Loan (5 yr) = $600,000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Supplies = $ 300,000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Mortgage (20 yr.) = $750,000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Merch. Inventory = $200,000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Land = $1,000,000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Building = $2,000,000</a:t>
            </a: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76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.)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.5:1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77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B.)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.25 :1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78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C.)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.15:1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79" name=""/>
          <p:cNvSpPr/>
          <p:nvPr/>
        </p:nvSpPr>
        <p:spPr>
          <a:xfrm>
            <a:off x="4876920" y="53802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D.)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371600" y="228600"/>
            <a:ext cx="746748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1,000,000 question</a:t>
            </a:r>
            <a:endParaRPr b="0" lang="en-US" sz="2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7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18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19"/>
          <a:stretch/>
        </p:blipFill>
        <p:spPr>
          <a:xfrm>
            <a:off x="609480" y="7315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0" name="millionaire1.wav"/>
      </p:stSnd>
    </p:sndAc>
  </p:transition>
  <p:timing>
    <p:tnLst>
      <p:par>
        <p:cTn id="676" dur="indefinite" restart="never" fill="hold">
          <p:childTnLst>
            <p:seq>
              <p:cTn id="677" dur="indefinite" nodeType="mainSeq">
                <p:childTnLst>
                  <p:par>
                    <p:cTn id="678" dur="indefinite" fill="hold">
                      <p:stCondLst>
                        <p:cond delay="indefinite"/>
                      </p:stCondLst>
                      <p:childTnLst>
                        <p:par>
                          <p:cTn id="6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1" dur="1000" fill="hold"/>
                                        <p:tgtEl>
                                          <p:spTgt spid="5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dur="indefinite" fill="hold">
                      <p:stCondLst>
                        <p:cond delay="indefinite"/>
                      </p:stCondLst>
                      <p:childTnLst>
                        <p:par>
                          <p:cTn id="6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dur="indefinite" fill="hold">
                      <p:stCondLst>
                        <p:cond delay="indefinite"/>
                      </p:stCondLst>
                      <p:childTnLst>
                        <p:par>
                          <p:cTn id="6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dur="indefinite" fill="hold">
                      <p:stCondLst>
                        <p:cond delay="indefinite"/>
                      </p:stCondLst>
                      <p:childTnLst>
                        <p:par>
                          <p:cTn id="6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dur="indefinite" fill="hold">
                      <p:stCondLst>
                        <p:cond delay="indefinite"/>
                      </p:stCondLst>
                      <p:childTnLst>
                        <p:par>
                          <p:cTn id="6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dur="indefinite" fill="hold">
                      <p:stCondLst>
                        <p:cond delay="indefinite"/>
                      </p:stCondLst>
                      <p:childTnLst>
                        <p:par>
                          <p:cTn id="6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dur="indefinite" fill="hold">
                      <p:stCondLst>
                        <p:cond delay="indefinite"/>
                      </p:stCondLst>
                      <p:childTnLst>
                        <p:par>
                          <p:cTn id="7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39625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I will eliminate two of the incorrect answers to help you determine the correct answer</a:t>
            </a:r>
            <a:endParaRPr b="0" lang="en-US" sz="32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>
            <a:lum bright="6000"/>
          </a:blip>
          <a:srcRect l="51962" t="21878" r="43320" b="72929"/>
          <a:stretch/>
        </p:blipFill>
        <p:spPr>
          <a:xfrm>
            <a:off x="2743200" y="488880"/>
            <a:ext cx="3733920" cy="309240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7848720" y="57150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002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8" dur="indefinite" restart="never" fill="hold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0" y="31338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1143000" y="228600"/>
            <a:ext cx="7010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Tahoma"/>
              </a:rPr>
              <a:t>Congratulations!</a:t>
            </a:r>
            <a:endParaRPr b="0" lang="en-US" sz="6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586" name=""/>
          <p:cNvSpPr/>
          <p:nvPr/>
        </p:nvSpPr>
        <p:spPr>
          <a:xfrm>
            <a:off x="1767240" y="5973840"/>
            <a:ext cx="586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Thank you for playing.</a:t>
            </a:r>
            <a:endParaRPr b="0" lang="en-US" sz="40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209680" y="1306440"/>
            <a:ext cx="4648320" cy="4667400"/>
            <a:chOff x="2209680" y="1306440"/>
            <a:chExt cx="4648320" cy="4667400"/>
          </a:xfrm>
        </p:grpSpPr>
        <p:pic>
          <p:nvPicPr>
            <p:cNvPr id="588" name="" descr=""/>
            <p:cNvPicPr/>
            <p:nvPr/>
          </p:nvPicPr>
          <p:blipFill>
            <a:blip r:embed="rId2"/>
            <a:stretch/>
          </p:blipFill>
          <p:spPr>
            <a:xfrm>
              <a:off x="2209680" y="1306440"/>
              <a:ext cx="4648320" cy="46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 txBox="1"/>
            <p:nvPr/>
          </p:nvSpPr>
          <p:spPr>
            <a:xfrm>
              <a:off x="2855880" y="3886200"/>
              <a:ext cx="3433680" cy="241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  <p:pic>
        <p:nvPicPr>
          <p:cNvPr id="590" name="" descr=""/>
          <p:cNvPicPr/>
          <p:nvPr/>
        </p:nvPicPr>
        <p:blipFill>
          <a:blip r:embed="rId3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06" dur="indefinite" restart="never" fill="hold">
          <p:childTnLst>
            <p:seq>
              <p:cTn id="707" dur="indefinite" nodeType="mainSeq">
                <p:childTnLst>
                  <p:par>
                    <p:cTn id="708" dur="indefinite" fill="hold">
                      <p:stCondLst>
                        <p:cond delay="indefinite"/>
                      </p:stCondLst>
                      <p:childTnLst>
                        <p:par>
                          <p:cTn id="7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430524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You will be able to call upon ONE member of your group to ask for help.</a:t>
            </a:r>
            <a:endParaRPr b="0" lang="en-US" sz="32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56396" t="21878" r="38857" b="72929"/>
          <a:stretch/>
        </p:blipFill>
        <p:spPr>
          <a:xfrm>
            <a:off x="2362320" y="461880"/>
            <a:ext cx="4343400" cy="357660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7848720" y="57150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458200" y="-5335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fill="hold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4419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Impact"/>
              </a:rPr>
              <a:t>You will be permitted to survey your entire team to find out their choice.</a:t>
            </a:r>
            <a:endParaRPr b="0" lang="en-US" sz="32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61291" t="21878" r="34254" b="72929"/>
          <a:stretch/>
        </p:blipFill>
        <p:spPr>
          <a:xfrm>
            <a:off x="2286000" y="457200"/>
            <a:ext cx="4343400" cy="380700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7848720" y="57150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458200" y="-5335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fill="hold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3300"/>
                </a:solidFill>
                <a:latin typeface="Tahoma"/>
              </a:rPr>
              <a:t>Let’s Play</a:t>
            </a:r>
            <a:endParaRPr b="0" lang="en-US" sz="4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354400" y="1752480"/>
            <a:ext cx="4435200" cy="4411800"/>
            <a:chOff x="2354400" y="1752480"/>
            <a:chExt cx="4435200" cy="441180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2354400" y="1752480"/>
              <a:ext cx="443520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 txBox="1"/>
            <p:nvPr/>
          </p:nvSpPr>
          <p:spPr>
            <a:xfrm>
              <a:off x="2971800" y="419112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372600" y="5638680"/>
            <a:ext cx="152280" cy="763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943600" y="6078600"/>
            <a:ext cx="266688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33520" y="1227240"/>
            <a:ext cx="4435200" cy="4411440"/>
            <a:chOff x="533520" y="1227240"/>
            <a:chExt cx="4435200" cy="441144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533520" y="1227240"/>
              <a:ext cx="4435200" cy="44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1150920" y="3665520"/>
              <a:ext cx="3276720" cy="22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latin typeface="Tahoma"/>
                </a:rPr>
                <a:t>ACCOUNTANT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latin typeface="Tahoma"/>
                <a:ea typeface="Tahoma"/>
              </a:endParaRPr>
            </a:p>
          </p:txBody>
        </p:sp>
      </p:grpSp>
    </p:spTree>
  </p:cSld>
  <p:transition spd="slow" advTm="0"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0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3" name="score1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289160"/>
            <a:ext cx="9144000" cy="1834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-76320" y="5345280"/>
            <a:ext cx="4653000" cy="64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9480" y="175248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w Cen MT"/>
                <a:ea typeface="Tunga"/>
              </a:rPr>
              <a:t>An association of two or more </a:t>
            </a:r>
            <a:endParaRPr b="0" lang="en-US" sz="4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w Cen MT"/>
                <a:ea typeface="Tunga"/>
              </a:rPr>
              <a:t>People who run a business is:</a:t>
            </a:r>
            <a:endParaRPr b="0" lang="en-US" sz="4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.) A banana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4572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B.) A corporation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Tahoma"/>
              </a:rPr>
              <a:t>C.) A partnership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D.) You can’t have more than one person</a:t>
            </a:r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905120" y="228600"/>
            <a:ext cx="26668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$100 question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-609480" y="647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-6094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175248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14" name="millionaire1.wav"/>
      </p:stSnd>
    </p:sndAc>
  </p:transition>
  <p:timing>
    <p:tnLst>
      <p:par>
        <p:cTn id="57" dur="indefinite" restart="never" fill="hold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opher Fane</dc:creator>
  <dc:description/>
  <dc:language>en-US</dc:language>
  <cp:lastModifiedBy>Virginia</cp:lastModifiedBy>
  <cp:revision>0</cp:revision>
  <dc:subject/>
  <dc:title>WWTBAM</dc:title>
</cp:coreProperties>
</file>